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AE5EE-31CE-47E7-B34E-9865CFCC2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F4FEC-2277-4B6C-BA07-F042A682A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640721-9091-44A4-B278-CABB12013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6CE1D-9D96-44B8-856E-07EDC826B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C4326-ECC9-4F8B-B572-AFEE5896C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CA72-A91B-474F-93AE-FC389FAE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5772-8745-40AD-A9EE-1941E86B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55FF-614A-42E3-8A01-9C2730D5F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7CF9-DFCC-4289-8974-C78D3AA80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1686-82ED-488D-8B33-B9AD10218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3ED99-7FE4-4071-B190-F072AB611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EEAEA-B12C-42EB-AA72-0D7649806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06AA8-4C98-4017-970B-69719A098A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
          <p:cNvSpPr txBox="1"/>
          <p:nvPr/>
        </p:nvSpPr>
        <p:spPr>
          <a:xfrm>
            <a:off x="1187280" y="2060640"/>
            <a:ext cx="720108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Maiandra GD"/>
              </a:rPr>
              <a:t>Medieval vs. Renaissance</a:t>
            </a:r>
            <a:endParaRPr b="1" lang="en-US" sz="1800" spc="1" strike="noStrike">
              <a:ln w="9360">
                <a:solidFill>
                  <a:srgbClr val="000000"/>
                </a:solidFill>
                <a:miter/>
              </a:ln>
              <a:solidFill>
                <a:srgbClr val="ffff99"/>
              </a:solidFill>
              <a:latin typeface="Maiandra GD"/>
              <a:ea typeface="Maiandra GD"/>
            </a:endParaRPr>
          </a:p>
        </p:txBody>
      </p:sp>
      <p:sp>
        <p:nvSpPr>
          <p:cNvPr id="42" name=""/>
          <p:cNvSpPr txBox="1"/>
          <p:nvPr/>
        </p:nvSpPr>
        <p:spPr>
          <a:xfrm>
            <a:off x="2627280" y="3357720"/>
            <a:ext cx="4105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Maiandra GD"/>
              </a:rPr>
              <a:t>Worldviews</a:t>
            </a:r>
            <a:endParaRPr b="1" lang="en-US" sz="1800" spc="1" strike="noStrike">
              <a:ln w="9360">
                <a:solidFill>
                  <a:srgbClr val="000000"/>
                </a:solidFill>
                <a:miter/>
              </a:ln>
              <a:solidFill>
                <a:srgbClr val="ffff99"/>
              </a:solidFill>
              <a:latin typeface="Maiandra GD"/>
              <a:ea typeface="Maiandra GD"/>
            </a:endParaRPr>
          </a:p>
        </p:txBody>
      </p:sp>
    </p:spTree>
  </p:cSld>
  <p:transition spd="slow" advTm="6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3" name=""/>
          <p:cNvGraphicFramePr/>
          <p:nvPr/>
        </p:nvGraphicFramePr>
        <p:xfrm>
          <a:off x="179280" y="189000"/>
          <a:ext cx="8712360" cy="6480000"/>
        </p:xfrm>
        <a:graphic>
          <a:graphicData uri="http://schemas.openxmlformats.org/drawingml/2006/table">
            <a:tbl>
              <a:tblPr/>
              <a:tblGrid>
                <a:gridCol w="1917720"/>
                <a:gridCol w="6794640"/>
              </a:tblGrid>
              <a:tr h="11142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65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View of Human Natur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both Medieval and the Renaissance, they believed that there were good and bad people and believed that bad people should be punished. Ex. In the movie of Medieval life, that peasant was sent to the stocks to be beaten. On page 15 of the textbook, there is a poster of Christopher Columbus that says “WANTED”, for doing bad things.</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2060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View of The Good Lif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thought that they had a good life if they were in good health, were safe, had their religion, and they never took things for granted. In the Renaissance, they started to value having goods. Such as spices, literature, art, architecture, etc. My evidence is in the picture of the ambassadors, where they have all of their possessions and goods showing that they are wealthy.  </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652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Equality With Other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edieval and Renaissance times were a bit the same when it came to equality with others. In both of them, there was a hierarchy, but in the Renaissance, the feudal system started to change. By looking at the Renaissance paintings, you can tell that women started to become more important, because they were the main subjects of most paintings.</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58000">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4" name=""/>
          <p:cNvGraphicFramePr/>
          <p:nvPr/>
        </p:nvGraphicFramePr>
        <p:xfrm>
          <a:off x="395280" y="620640"/>
          <a:ext cx="8352000" cy="5981760"/>
        </p:xfrm>
        <a:graphic>
          <a:graphicData uri="http://schemas.openxmlformats.org/drawingml/2006/table">
            <a:tbl>
              <a:tblPr/>
              <a:tblGrid>
                <a:gridCol w="2459160"/>
                <a:gridCol w="589284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30142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Responsibilities To Other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 woman cooked, cleaned, farmed, and looked after the family, as seen in the movie. The peasants also had to work for the lord. As you see it, they believed in taking care of others before themselves. In Renaissance times, its basically the same, but this time, the evidence is the paintings of Madonna with a child, implicitly showing that Madonna takes care of the child and believes in taking care of others before herself. But, one change from Medieval to Renaissance is that they did start to take care of themselves more, as shown in some paintings, where they are dressed up all nice, making themselves look nice.</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25275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Individual and the Stat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During the Medieval period, the society was more important then any individual person. There was a social hierarchy and the solutions to problems was done with trial by jury. The people of the town had to pay a tithe to the church, and women had less value then anyone. The change from Medieval to Renaissance was that in the Renaissance, the women started to have an increase in value and rights, shown by Christine de Pisan, a French poet, wrote that women should be allowed to participate more fully in society.</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55000">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5" name=""/>
          <p:cNvGraphicFramePr/>
          <p:nvPr/>
        </p:nvGraphicFramePr>
        <p:xfrm>
          <a:off x="395280" y="1341360"/>
          <a:ext cx="8229600" cy="4219560"/>
        </p:xfrm>
        <a:graphic>
          <a:graphicData uri="http://schemas.openxmlformats.org/drawingml/2006/table">
            <a:tbl>
              <a:tblPr/>
              <a:tblGrid>
                <a:gridCol w="2448000"/>
                <a:gridCol w="5781600"/>
              </a:tblGrid>
              <a:tr h="86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Changes Between Medieval and Renaissance Worldviews</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555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Relationship Of Humans With Nature</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were nice to nature and only used what they needed to, as seen in the movie. The transition to the Renaissance resulted in people taking things for granted more and having more then what they needed, which ended in more trading.</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18000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Maiandra GD"/>
                        </a:rPr>
                        <a:t>Sources of Ethical Wisdom</a:t>
                      </a:r>
                      <a:endParaRPr b="0" lang="en-US" sz="24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In Medieval times, they believed their religion was the answer to everything, as seen in the movie, when they thought  god had punished them when someone got hurt or sick. But going into the Renaissance, they started to believe more in logic and science, as when they had to figure out the Black Death, logic was the only answer. </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3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6" name=""/>
          <p:cNvSpPr txBox="1"/>
          <p:nvPr/>
        </p:nvSpPr>
        <p:spPr>
          <a:xfrm>
            <a:off x="1619280" y="907920"/>
            <a:ext cx="6033960" cy="5763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ff99"/>
                </a:solidFill>
                <a:latin typeface="Maiandra GD"/>
              </a:rPr>
              <a:t>Most Important Changes </a:t>
            </a:r>
            <a:endParaRPr b="0" lang="en-US" sz="1800" spc="1" strike="noStrike">
              <a:ln w="9360">
                <a:solidFill>
                  <a:srgbClr val="ffff99"/>
                </a:solidFill>
                <a:miter/>
              </a:ln>
              <a:solidFill>
                <a:srgbClr val="ffff99"/>
              </a:solidFill>
              <a:latin typeface="Maiandra GD"/>
              <a:ea typeface="Maiandra G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ffff99"/>
                </a:solidFill>
                <a:latin typeface="Maiandra GD"/>
              </a:rPr>
              <a:t>Between the Two Periods</a:t>
            </a:r>
            <a:endParaRPr b="0" lang="en-US" sz="1800" spc="1" strike="noStrike">
              <a:ln w="9360">
                <a:solidFill>
                  <a:srgbClr val="ffff99"/>
                </a:solidFill>
                <a:miter/>
              </a:ln>
              <a:solidFill>
                <a:srgbClr val="ffff99"/>
              </a:solidFill>
              <a:latin typeface="Maiandra GD"/>
              <a:ea typeface="Maiandra GD"/>
            </a:endParaRPr>
          </a:p>
        </p:txBody>
      </p:sp>
      <p:sp>
        <p:nvSpPr>
          <p:cNvPr id="47" name=""/>
          <p:cNvSpPr/>
          <p:nvPr/>
        </p:nvSpPr>
        <p:spPr>
          <a:xfrm>
            <a:off x="395280" y="2060640"/>
            <a:ext cx="475308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 most important change between the two periods is that in Medieval times, they focused mostly on religion, shown in mostly all of their art. In the Renaissance, they start to focus on the arts and literature, and people, shown in their paintings where they show in great detail the people with all the shading and depth in them.</a:t>
            </a:r>
            <a:endParaRPr b="0" lang="en-US" sz="1600" spc="-1" strike="noStrike">
              <a:solidFill>
                <a:srgbClr val="000000"/>
              </a:solidFill>
              <a:latin typeface="Arial"/>
            </a:endParaRPr>
          </a:p>
        </p:txBody>
      </p:sp>
      <p:sp>
        <p:nvSpPr>
          <p:cNvPr id="48" name=""/>
          <p:cNvSpPr/>
          <p:nvPr/>
        </p:nvSpPr>
        <p:spPr>
          <a:xfrm>
            <a:off x="4932360" y="3716280"/>
            <a:ext cx="388764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Another important change is the change from valuing religion and safety and family, to valuing more material possessions, in the Renaissance, which his shown in the Ambassadors painting, which shows them with all their goods, but with the cross hiding behind the curtain in the corner, showing that in the Renaissance, they still value religion a tiny bit.</a:t>
            </a:r>
            <a:endParaRPr b="0" lang="en-US" sz="1600" spc="-1" strike="noStrike">
              <a:solidFill>
                <a:srgbClr val="000000"/>
              </a:solidFill>
              <a:latin typeface="Arial"/>
            </a:endParaRPr>
          </a:p>
        </p:txBody>
      </p:sp>
    </p:spTree>
  </p:cSld>
  <p:transition spd="slow" advTm="35000">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graphicFrame>
        <p:nvGraphicFramePr>
          <p:cNvPr id="49" name=""/>
          <p:cNvGraphicFramePr/>
          <p:nvPr/>
        </p:nvGraphicFramePr>
        <p:xfrm>
          <a:off x="457200" y="274680"/>
          <a:ext cx="8229600" cy="6462720"/>
        </p:xfrm>
        <a:graphic>
          <a:graphicData uri="http://schemas.openxmlformats.org/drawingml/2006/table">
            <a:tbl>
              <a:tblPr/>
              <a:tblGrid>
                <a:gridCol w="2746440"/>
                <a:gridCol w="2739960"/>
                <a:gridCol w="2743200"/>
              </a:tblGrid>
              <a:tr h="1373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Mediev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Changes Between the 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Renaissance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Maiandra GD"/>
                        </a:rPr>
                        <a:t>Art</a:t>
                      </a:r>
                      <a:endParaRPr b="0" lang="en-US" sz="28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r h="5481000">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2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ostly about religion</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acked depth</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acked shading</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No texture </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Architecture was detaile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Muted color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Not concerned with beauty, but more with the messag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y went from 2D to 3D because they started to focus more on humans and wanted to make them look more real</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here was a difference because in Medieval times they focused mostly on religion and sending out a message, and in the Renaissance they wanted their paintings to be of beauty and show, so they had more details to them.</a:t>
                      </a: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c>
                  <a:txBody>
                    <a:bodyPr lIns="90000" rIns="90000" tIns="46800" bIns="46800" anchor="t">
                      <a:noAutofit/>
                    </a:bodyPr>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3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Very detailed</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Textur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Simpl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Perspectiv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Depth</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Painting Technique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Balanc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Location of objects in image showed importance</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Maiandra GD"/>
                        </a:rPr>
                        <a:t>Bolder colours</a:t>
                      </a: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buClr>
                          <a:srgbClr val="ffff99"/>
                        </a:buClr>
                        <a:buFont typeface="Maiandra G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ffff99"/>
                      </a:solidFill>
                    </a:lnL>
                    <a:lnR w="13680">
                      <a:solidFill>
                        <a:srgbClr val="ffff99"/>
                      </a:solidFill>
                    </a:lnR>
                    <a:lnT w="13680">
                      <a:solidFill>
                        <a:srgbClr val="ffff99"/>
                      </a:solidFill>
                    </a:lnT>
                    <a:lnB w="13680">
                      <a:solidFill>
                        <a:srgbClr val="ffff99"/>
                      </a:solidFill>
                    </a:lnB>
                    <a:noFill/>
                  </a:tcPr>
                </a:tc>
              </a:tr>
            </a:tbl>
          </a:graphicData>
        </a:graphic>
      </p:graphicFrame>
    </p:spTree>
  </p:cSld>
  <p:transition spd="slow" advTm="30000">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21:32:40Z</dcterms:created>
  <dc:creator>Jamie</dc:creator>
  <dc:description/>
  <dc:language>en-US</dc:language>
  <cp:lastModifiedBy>Administrator</cp:lastModifiedBy>
  <dcterms:modified xsi:type="dcterms:W3CDTF">2009-11-16T00:42:23Z</dcterms:modified>
  <cp:revision>13</cp:revision>
  <dc:subject/>
  <dc:title>Slide 1</dc:title>
</cp:coreProperties>
</file>